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0920" cy="369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09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3849840" y="9378720"/>
            <a:ext cx="2938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3C3A4-A8BE-41E3-8C4D-3F53F74E18F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3849840" y="9379080"/>
            <a:ext cx="2938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010D8-7BB5-4A74-86AC-B42DF129717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79" name="Text Box 2"/>
          <p:cNvSpPr/>
          <p:nvPr/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FCB86-18AA-4251-93CF-84AC2B0CC0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8D11F-710E-4FAD-8D7C-EEEE8142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0B066-3FB5-4C14-BF17-E23B84B1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FAAB3-23BD-4DAB-8170-20C952D6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CC685-3238-4BE4-9D9B-3BD6B715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31DDC-6028-4263-95E5-AA15E325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0781C-849B-4294-88FF-DFDEDB7A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12091-9DA8-456F-A47A-13EB3098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C7513-6EDB-4EF6-ABB5-DA53F83C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C9C5F-D9B1-434C-8E3C-C77B96D4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45FFD-4FAF-4A8A-BDA3-EA387D1A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021E9-E7A3-4A42-AF60-00F32BE603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7896-6A38-49FB-AA7A-F3723C8320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24AE-D0A0-4751-9A4B-3C8DBDD0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2068-5BA3-4CDB-8CFD-A254726C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2157-C2C3-4AAC-8021-0DF93873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ED1C-D4BD-4129-A025-E6B12B47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6BD5-0608-4E8C-946A-ADC49BD4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7BA2-82C9-4A65-94D0-8E527B47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6334-5E18-4082-A6E0-B12AB2C0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E249-6AAC-4BA9-843A-9BF880DF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B335-DCE5-4160-836F-635DA187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9A42-7B76-4674-BA72-027F4210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4241-AB4A-4196-B08B-2B97AF5C7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7788D-51AB-4BC4-BB36-0399A3A839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6F45C-3FD7-4110-9B1C-7FA13418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E04B6-AC11-4704-AA8B-33FA280F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6236D-E8B2-4EE4-B7D3-F5E3681C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C89CC-7A7C-40B5-B4F8-802F2089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C207D-2359-4DC8-8627-87B8ADE9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971AA-C3C3-46D6-952D-D9589129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2E2B9-5F38-46F0-B815-D1527E6C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30AB4-3C4B-485B-95E6-77090431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DEA5A-10FF-432B-B10D-38F14CE4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28DB8-939F-4DA7-AF65-082EB4C1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64275-A1EF-4A7C-B322-D39F7F69F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EF198-321A-4B98-B62A-CAA9BF0167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8EA84-F0F0-4125-A750-03528041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3CAD7-47D1-425B-8D79-C77D7A47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38EBC-7E66-4218-8740-1CB41E47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6410FF-3829-40F3-808D-B1647CCA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31AE4-67A4-4EB3-9DD6-29ACF3E7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7F804-FCCF-4D73-B113-7EE5991D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FC209-F49A-4AAC-997F-C9BACC4A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DDD52-5FAE-4A57-B7BA-6DDF12F5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F0E63C-DFE0-4D18-9406-54E72590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9FB14-78F8-4D8E-A653-850ABF4B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ED928-F90A-491A-A7EF-C80DF58180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F8F8-152B-4830-9C79-9B436645B4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5045-D1CB-4A7C-B79F-1D701782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ADC1-78D8-47DE-833C-25B7D4C3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7CFA-045D-4B6A-9D8E-D828C773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2ECD9-F819-4348-BB77-7C4B453D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966AE-F1D8-4806-B3CA-F0CAFFAD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40AEB-43A3-4ED8-9FC6-545F2B09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C7702-6222-4D93-B186-9ADB4168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56AF1-321A-4CF2-AD5D-97E6E8E8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E855-CCA1-491E-8152-73784BD9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B1677-7E3C-402D-A7AB-7EA2A76C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16CE5-4D56-4E3F-B2EF-78ADA22DE5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28B7A-98EC-4C90-A918-50295BF632CD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90634-2D40-435B-81C1-9DFC5EDD4F5E}" type="datetime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CF776-99E7-4836-BE24-3D501EC318BF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C0A36-D173-4A56-B257-82890A7F2F02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288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0" y="3867120"/>
            <a:ext cx="9144000" cy="29908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9144000" h="2990850">
                <a:moveTo>
                  <a:pt x="0" y="0"/>
                </a:moveTo>
                <a:lnTo>
                  <a:pt x="25400" y="0"/>
                </a:lnTo>
                <a:lnTo>
                  <a:pt x="25400" y="8309"/>
                </a:lnTo>
                <a:lnTo>
                  <a:pt x="0" y="830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0" y="0"/>
            <a:ext cx="9144000" cy="38671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867120"/>
              <a:gd name="textAreaBottom" fmla="*/ 3867480 h 3867120"/>
            </a:gdLst>
            <a:ahLst/>
            <a:rect l="textAreaLeft" t="textAreaTop" r="textAreaRight" b="textAreaBottom"/>
            <a:pathLst>
              <a:path w="9144000" h="3867150">
                <a:moveTo>
                  <a:pt x="0" y="0"/>
                </a:moveTo>
                <a:lnTo>
                  <a:pt x="25400" y="0"/>
                </a:lnTo>
                <a:lnTo>
                  <a:pt x="25400" y="10741"/>
                </a:lnTo>
                <a:lnTo>
                  <a:pt x="0" y="1074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0" y="2652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33640" y="2172960"/>
            <a:ext cx="59580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22120" y="4606560"/>
            <a:ext cx="596268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CCD84-0535-4E5D-8340-CDD3C6EE9176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4FE79-11E7-48AB-8EE0-A71D6D9A4BD4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03655-76FB-4BD1-99C7-DD5678A411F2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8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1DB95-BB2B-4C49-BC95-EC11E959B175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9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836A0-2466-40A2-8918-1B150259C8E0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0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0E7F5-F57E-400F-897D-315CE6A07DB3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1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95829-1684-4E3C-B0D8-0BEEF1AAF428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0B726-E2AD-43F4-87A5-C06696D394D3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 подходах к разработке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всероссийских проверочных работ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 пяти предметам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для обучающихся 11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484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Демидова М.Ю., руководитель Центра педагогических измерений ФГБНУ «ФИП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36920" y="5084640"/>
            <a:ext cx="4535280" cy="15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24000" y="1563840"/>
            <a:ext cx="4446360" cy="265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4211640" y="3111480"/>
            <a:ext cx="448164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128160"/>
            <a:ext cx="7861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ы научного позн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3640" y="1273320"/>
            <a:ext cx="3961080" cy="53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324000" y="4659480"/>
            <a:ext cx="4432320" cy="20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Прямоугольник 2"/>
          <p:cNvSpPr/>
          <p:nvPr/>
        </p:nvSpPr>
        <p:spPr>
          <a:xfrm>
            <a:off x="466560" y="1557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онимание фундаментальных опы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амостоятельное планирование исследов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контекст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559040" cy="46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4481640" y="2897280"/>
            <a:ext cx="4576680" cy="7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0" name="Picture 4" descr=""/>
          <p:cNvPicPr/>
          <p:nvPr/>
        </p:nvPicPr>
        <p:blipFill>
          <a:blip r:embed="rId3"/>
          <a:stretch/>
        </p:blipFill>
        <p:spPr>
          <a:xfrm>
            <a:off x="4500720" y="3943440"/>
            <a:ext cx="4557600" cy="222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контролируют степень овладения знаниями и умениями базового курса биологии и проверяют сформированность у выпускников практико-ориентированной биологической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азделы курса биологии: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«Биология как наука. Методы научного познания», «Клетка», «Организм», «Вид», «Экосистемы», «Организм человека и его здоров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своение понятийного аппарата курса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методологическими ум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менение знаний при объяснении биологических процессов, явлений, а также решении элементарных биолог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умениями по работе с информацией биологического содерж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348000" y="3906720"/>
            <a:ext cx="5602320" cy="27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79280" y="1457280"/>
            <a:ext cx="534348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ктико-ориентированное содержание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788000" y="1550880"/>
            <a:ext cx="4130640" cy="51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331920" y="3651120"/>
            <a:ext cx="429408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000" y="1700280"/>
            <a:ext cx="7994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ключены задания по содержательным блокам: «Теоретические основы химии», «Неорганическая химия», «Органическая химия», «Методы познания в хим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кратким ответом проверяют на базовом уровне усвоение большинства элементов содержания, изучаемых в рамках основных тем курса химии 10-11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развернутым ответом проверяют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ставлять уравнения реакций, подтверждающих свойства веществ и/или взаимосвязь различных классов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ъяснять обусловленность свойств и способов получения веществ их составом и строе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ычислять массу или объем веществ, участвующих в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Источники географическ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Миров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родопользование и гео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егионы и страны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Географ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 работе провер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нание географических явлений и процессов в геосферах и географических особенностей природы населения и хозяйства отдельных территор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анализировать географическую информацию, представленную в различных форм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пособность применять полученные в школе географические знания для объяснения различных событий и явлений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кация доку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убликация документов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, регламентирующих разработку ВПР-11 по пяти предме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исания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дификаторы проверяемых элементов содержания и требований к уровню подготовк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разцы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нец ноября 2016 года, сайт ФГБНУ «ФИП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 ВПР не требует организации специальной подготов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26920" y="2637000"/>
            <a:ext cx="760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1e4649"/>
                </a:solidFill>
                <a:latin typeface="Garamond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18920" y="7560"/>
            <a:ext cx="67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Р-11 в 201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39640" y="1484280"/>
            <a:ext cx="813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Распоряжение Рособрнадзора №2322-05 от 30.08.201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«Об утверждении графиков проведения мероприятий, направленных на исследование качества образования на 2016-2017 год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График проведения всероссийских проверочных работ в 11 клас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76360" y="3789360"/>
          <a:ext cx="6095880" cy="2224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редм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Дата про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я 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дура подготовки вариантов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проекта кодификатора, описания всероссийской проверочной работы по предмету и образца вариан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фокус-групп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профессиональном сообществе, экспертиза документов, регламентирующих разработку ВП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Публикация описаний, кодификаторов и образцов вариа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вариантов ВПР по 5 предметам, проведение содержательных и тестологических экспертиз. Подготовка оригинал-маке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1. Назначение В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ПР-11 предназначена для итоговой оценки учебной подготовки выпускников, изучавших школьный курс данного предмета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 базовом уровне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2. Документ, определяющий содержание ВП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Федеральный компонент государственного образовательного стандарта среднего (полного) общего образования по предмету, базовый уровень (приказ Минобразования России от 05.03.2004 № 108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3. Время выполнения работы – 9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4. Уровни сложности зад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базовый уровень  (порядка 60% от максимального бал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вышенный уровень (порядка 40% от максимального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5. Формы заданий – с кратким и развернутым ответом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используются модели, не предназначенные для бланковой технологии). Использование контекстных заданий и дополнительных справочных 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6.  Содержание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наиболее значимые элементы содержания всех разделов предметного кур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7. Количество заданий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до 20 заданий в вариа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412640"/>
            <a:ext cx="799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школьниками базовыми историческими знан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ыт применения историко-культурного подхода к оценке социаль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применять исторические знания для осмысления сущности обществен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искать, анализировать, сопоставлять и оценивать содержащуюся в различных источниках информацию о событиях и явлениях прошлого</a:t>
            </a:r>
            <a:r>
              <a:rPr b="0" lang="ru-RU" sz="16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15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</a:rPr>
              <a:t>история России с древнейших времён до наших дней и истории родного края.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(Знания по всеобщей истории проверяются в работе только в контексте истории Ро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знание учащимися истории, культуры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и культура родного края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53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тивность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75280" cy="545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483920"/>
            <a:ext cx="799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ять групп  заданий, оценивающих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онимать смысл изученных физических понятий, величин, законов, мод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писывать и объяснять физические явления и свойства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бъяснять устройство и принцип действия технических объ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Делать выводы на основе экспериментальных данных, планировать ис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Воспринимать и оценивать информацию физического содержания (работа с текс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роверка фундаментальных принципов и законов, наиболее значимых элементов содержания из всех разделов курса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марина</cp:lastModifiedBy>
  <dcterms:modified xsi:type="dcterms:W3CDTF">2016-10-28T05:16:37Z</dcterms:modified>
  <cp:revision>527</cp:revision>
  <dc:subject/>
  <dc:title>Презентация PowerPoint</dc:title>
</cp:coreProperties>
</file>