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145088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11C0-FD53-47DB-A154-C289237515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5D41-DD18-41CD-96CE-7217B14F5A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9DB9-4008-4949-A314-28CF19B095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A3A4-5AB9-483F-A501-744A535268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CAA7-196F-435C-9A58-F6048244E2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EB3B-F94A-4247-9167-9DB7FC7C03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536F-51C3-4F4F-BB70-0DF52C6376B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1EEC-34DB-472F-98B2-5BB7564D5F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F6C6-CFC1-48F6-AB08-A668A40656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FD5A-BA5B-4BE5-9574-004F9A7CA25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CF4E-0C32-4961-AA7B-998F0A2D07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F2C2-5A5E-4770-9BC9-294A54F6E9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828-D920-4DA6-AAB8-D03E3ECD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BBE-7EBC-4BF6-BE89-B7DB0CC3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12B-7492-46D5-8133-22F2F141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B3E-6DF5-4213-B344-6B2B4083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4013-3AE4-422C-8673-84B74D3E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C774-A7A6-4D2C-8351-F2EB5EB9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51C4-A5EB-4FDC-8227-7EEF3363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D8E1-984D-4A7F-A0F6-AC4C0578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31BE-322B-4D2F-898A-F4441C38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419B-A1CF-470A-AE51-AED37C3A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B374-D4B3-440D-B7BD-C9213617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2B8-D01B-4514-915D-BDF332B9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445F-AED5-44CC-99BD-81D46186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C541-ECCC-4FDE-8F45-E915DE1F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5E55-A796-4B75-9954-A254CCD2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2FC1-B9FF-44A0-9A27-B864BEE4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792A-C8E8-41CA-9250-CF18ED28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C22C-6C60-4710-BC8B-F7D19D72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D3684-A9C2-406A-A87B-C52E3E5B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FCA1-3DEF-4A10-8D6D-E6495445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FF75-8892-486E-AB0F-D632A32C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F195-ECC1-4477-AED9-86A37D60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41E-F374-4060-97E2-A2C4D090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9F0B-A2D8-40F2-968B-E13AEBF7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7602-29B3-428F-9A9C-FBABF3F5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C0C7-B159-4395-959D-C4692030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AB3E-46AA-428A-A9B3-94F9EACE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B71A-9020-46F1-AC0F-76B152F7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FDA5-436B-434A-A143-598F1519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9294-21DC-47B1-9AF2-55729CB1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6CC-8742-48BF-866F-11CF43B0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C84-A8B0-4562-BF2A-7B6BA7AB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B4C-7C9F-46EB-A2B3-22AF827B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E63-FECC-4A7E-A69A-CD399F91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C6F-E965-444E-B41D-8878F327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904-8AB4-45E8-A2DC-B1575734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8C71-7999-4D05-8A27-844E49783DC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E622-350C-4CE5-899D-86A5F4AEE4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54DA-B77A-48BC-A830-EE03DC592F7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6CF5-3E89-43C5-857C-EFAB27381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4026-38EA-4BA0-8F41-BB92294AE2A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8D67-96A7-4825-9234-3F1F761460FF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7"/>
          <p:cNvSpPr/>
          <p:nvPr/>
        </p:nvSpPr>
        <p:spPr>
          <a:xfrm>
            <a:off x="468360" y="1130400"/>
            <a:ext cx="8280360" cy="32630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результаты исследования компетенций учителей математики,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ргей Владимирович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нчен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Центра националь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еждународных исследований качества образов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ого государственного бюджетного учрежде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Федеральный институт оценки качества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826920" y="1131840"/>
            <a:ext cx="756144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уровневой градации (одновременно с модернизацией профессионального стандарта педаг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еханизмов диагностики и профессиональной помощи на основе результатов оценки, в том числе, на основе адресного повышения квалиф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методик оценки психолого-педагогических компете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енно-профессиональное об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Дальнейши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539640" y="2066760"/>
            <a:ext cx="820908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7"/>
          <p:cNvSpPr/>
          <p:nvPr/>
        </p:nvSpPr>
        <p:spPr>
          <a:xfrm>
            <a:off x="250920" y="195120"/>
            <a:ext cx="864216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Источники информации об уровне компетенций учителей.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Федера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"/>
          <p:cNvSpPr/>
          <p:nvPr/>
        </p:nvSpPr>
        <p:spPr>
          <a:xfrm>
            <a:off x="495144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135400" y="253512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сравнительны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8"/>
          <p:cNvSpPr/>
          <p:nvPr/>
        </p:nvSpPr>
        <p:spPr>
          <a:xfrm>
            <a:off x="207180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2451240" y="25351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0"/>
          <p:cNvSpPr/>
          <p:nvPr/>
        </p:nvSpPr>
        <p:spPr>
          <a:xfrm>
            <a:off x="3079800" y="379872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459240" y="38336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2"/>
          <p:cNvSpPr/>
          <p:nvPr/>
        </p:nvSpPr>
        <p:spPr>
          <a:xfrm>
            <a:off x="106380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1442880" y="123192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4"/>
          <p:cNvSpPr/>
          <p:nvPr/>
        </p:nvSpPr>
        <p:spPr>
          <a:xfrm>
            <a:off x="401652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395960" y="12319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6"/>
          <p:cNvSpPr/>
          <p:nvPr/>
        </p:nvSpPr>
        <p:spPr>
          <a:xfrm>
            <a:off x="5940360" y="3798720"/>
            <a:ext cx="237672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105600" y="3808440"/>
            <a:ext cx="20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компетенций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7"/>
          <p:cNvSpPr/>
          <p:nvPr/>
        </p:nvSpPr>
        <p:spPr>
          <a:xfrm>
            <a:off x="250920" y="195120"/>
            <a:ext cx="8642160" cy="794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Разработка модели оценки компетенций учителей. 1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частии ассоциаций учителей истории, математики,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"/>
          <p:cNvSpPr/>
          <p:nvPr/>
        </p:nvSpPr>
        <p:spPr>
          <a:xfrm>
            <a:off x="1835280" y="130824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2214720" y="1343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российское исслед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учителя истор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15 г., 6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1835280" y="248616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2041560" y="25210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ое исследование компетенций учителей русского языка и математики (осень 2015 г., 2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1835280" y="3665520"/>
            <a:ext cx="5329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2016000" y="37004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е компетенций учителей русского языка, литературы и математики (весна-осень 2016 г., 20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1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ценка компетенций как часть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2944800" y="2316240"/>
            <a:ext cx="2930400" cy="142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С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855720" y="1382760"/>
            <a:ext cx="208908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ценка 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468360" y="2682720"/>
            <a:ext cx="180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867280" y="1190520"/>
            <a:ext cx="25923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профессиональной помощи и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732720" y="2546280"/>
            <a:ext cx="230328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реды профессионального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755640" y="4032360"/>
            <a:ext cx="20876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стим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6389640" y="4226040"/>
            <a:ext cx="165744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право 1"/>
          <p:cNvSpPr/>
          <p:nvPr/>
        </p:nvSpPr>
        <p:spPr>
          <a:xfrm>
            <a:off x="2427120" y="2827440"/>
            <a:ext cx="344520" cy="42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право 10"/>
          <p:cNvSpPr/>
          <p:nvPr/>
        </p:nvSpPr>
        <p:spPr>
          <a:xfrm rot="2952600">
            <a:off x="3095640" y="1670040"/>
            <a:ext cx="649440" cy="4269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2"/>
          <p:cNvSpPr/>
          <p:nvPr/>
        </p:nvSpPr>
        <p:spPr>
          <a:xfrm rot="18913200">
            <a:off x="3000240" y="3889080"/>
            <a:ext cx="649440" cy="4284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право 13"/>
          <p:cNvSpPr/>
          <p:nvPr/>
        </p:nvSpPr>
        <p:spPr>
          <a:xfrm rot="13497000">
            <a:off x="5647680" y="373032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14"/>
          <p:cNvSpPr/>
          <p:nvPr/>
        </p:nvSpPr>
        <p:spPr>
          <a:xfrm rot="10800000">
            <a:off x="6192720" y="2833200"/>
            <a:ext cx="395280" cy="42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право 15"/>
          <p:cNvSpPr/>
          <p:nvPr/>
        </p:nvSpPr>
        <p:spPr>
          <a:xfrm rot="8266800">
            <a:off x="5093640" y="166068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7"/>
          <p:cNvSpPr/>
          <p:nvPr/>
        </p:nvSpPr>
        <p:spPr>
          <a:xfrm>
            <a:off x="755640" y="1303200"/>
            <a:ext cx="7632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ая подготов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ка преподавания, в том числе, объективное оценивание уровня подготовки обучаю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ланируется апробировать в 2017 г. различные формы оценки, в том числе, оценку реальной работы учителя на уроке, которая может быть реализована на уровне О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620640" y="371520"/>
            <a:ext cx="806472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сновные группы компетенций (в планируемой модели), 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в соответствии с Профессиональным стандартом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24000" y="11916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mbria"/>
              </a:rPr>
              <a:t>Исследование компетенций учителей, апрель-май 2016 года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Диаграмма 1" descr=""/>
          <p:cNvPicPr/>
          <p:nvPr/>
        </p:nvPicPr>
        <p:blipFill>
          <a:blip r:embed="rId1"/>
          <a:srcRect l="0" t="0" r="-38" b="0"/>
          <a:stretch/>
        </p:blipFill>
        <p:spPr>
          <a:xfrm>
            <a:off x="0" y="858960"/>
            <a:ext cx="3995640" cy="2154240"/>
          </a:xfrm>
          <a:prstGeom prst="rect">
            <a:avLst/>
          </a:prstGeom>
          <a:ln w="0">
            <a:noFill/>
          </a:ln>
        </p:spPr>
      </p:pic>
      <p:pic>
        <p:nvPicPr>
          <p:cNvPr id="169" name="Диаграмма 1" descr=""/>
          <p:cNvPicPr/>
          <p:nvPr/>
        </p:nvPicPr>
        <p:blipFill>
          <a:blip r:embed="rId2"/>
          <a:stretch/>
        </p:blipFill>
        <p:spPr>
          <a:xfrm>
            <a:off x="4427640" y="773280"/>
            <a:ext cx="4392360" cy="2323800"/>
          </a:xfrm>
          <a:prstGeom prst="rect">
            <a:avLst/>
          </a:prstGeom>
          <a:ln w="0">
            <a:noFill/>
          </a:ln>
        </p:spPr>
      </p:pic>
      <p:pic>
        <p:nvPicPr>
          <p:cNvPr id="170" name="Диаграмма 1" descr=""/>
          <p:cNvPicPr/>
          <p:nvPr/>
        </p:nvPicPr>
        <p:blipFill>
          <a:blip r:embed="rId3"/>
          <a:srcRect l="-195" t="-4155" r="-816" b="-3377"/>
          <a:stretch/>
        </p:blipFill>
        <p:spPr>
          <a:xfrm>
            <a:off x="2195640" y="3103560"/>
            <a:ext cx="4578120" cy="189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395280" y="5076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едметная компет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162160" y="915840"/>
            <a:ext cx="1911240" cy="473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649760" y="933480"/>
            <a:ext cx="32004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,2 %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математик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правились с зад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95640" y="99540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382680" y="1754280"/>
            <a:ext cx="407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аком предложении выделенное слово пишется слит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643280" y="1727280"/>
            <a:ext cx="424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7,2 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ителей русского языка выбрали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Вот уже несколько минут Иван напряженно всматривался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да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надеясь разглядеть на горизонте пароходный д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439560" y="3193920"/>
            <a:ext cx="396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а цитата из письм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девушка сама неглупая предпочитает дурака умному человеку; и этот человек, разумеется, в противуречии с обществом его окружающим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произведение, о котором идет речь и его ав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4668840" y="3144960"/>
            <a:ext cx="374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,3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литературы не узнали комедию «Горе от ума» по приведенной цита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042920" y="1417680"/>
            <a:ext cx="676908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каждому из предметов значительная доля учителей показала относительно невысокие результаты выполнения стандартных учебных за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констатировать достаточно низкий уровень методических компетенций учителей, неумение объяснить свои действия, спланировать учебную работу в соответствии с конкретной зада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лен недостаточный уровень владения приемами объективного стандартизированного оценивания результатов обучения, что может препятствовать эффективному выполнению учителями их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б уровне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79280" y="843120"/>
            <a:ext cx="864072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дифференцировать уровень компетенций учителей по всем заявленным блокам, однако имеет свои ограничения: не все виды компетенций можно оценить зада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ые в исследовании подходы могут применяться как для оценки компетенций учителей в рамках аттестационных процедур, так и для диагностики с целью организации адресного повышения квалификации и оказания профессиональной помощи учителю на основе результатов выполнения им диагност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обеспечить единые для всех регионов подходы к оценке уровня квалификации уч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 развитие апробированного подхода в направлении введения уровневой градации результатов диагностики одновременно с модернизацией профессионального стандарта педаг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обеспечить максимальную вариативность заданий, основанных на педагогических ситуациях, чтобы учитель имел возможность проявить свои компетенции в ситуации, близкой к его практической раб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рассмотреть вопрос расширения спектра оцениваемых компетенций путем включения оценки психолого-педагогических компетенций учителя, осуществляемой, в том числе, с привлечением региональных методических объединений или на школьном уров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 модели оценки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2:04:26Z</dcterms:created>
  <dc:creator>danilov@halfbudget.com</dc:creator>
  <dc:description/>
  <dc:language>en-US</dc:language>
  <cp:lastModifiedBy>Сергей Станченко</cp:lastModifiedBy>
  <cp:lastPrinted>2014-06-23T12:14:10Z</cp:lastPrinted>
  <dcterms:modified xsi:type="dcterms:W3CDTF">2016-10-28T08:17:18Z</dcterms:modified>
  <cp:revision>657</cp:revision>
  <dc:subject/>
  <dc:title>Презентация PowerPoint</dc:title>
</cp:coreProperties>
</file>